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666-68D5-4680-80D1-F86660F4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3C0-F2E8-4695-826F-683AD8B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018-32A2-4501-B7A9-D02FA8C0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D0A-3D22-4E2B-86BE-D3380E71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A23-53B7-4DB2-92A8-C823FE22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F9C6-CF5F-4FF6-9074-873C07C4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9AA-7724-42D0-886A-D2ED965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6DB-F18B-4FDB-A0A3-8F3E1CB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71A-DCEF-42EE-A130-6953D5BD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1549-00B7-4E49-A050-87D2CA9B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215-88D7-4878-A183-ADC6ECB4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CA1-F9E8-442F-A507-C0828AA1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2463-AD2F-4095-9712-983F4CF2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79E-BD23-4685-8D72-D937AA4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EB76-1E91-49D2-8271-7440EEE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7624-09EF-407E-B2BE-9675EAE3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F56E-B6D3-4EEF-8D22-4E81324B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499D-F59D-412B-B4F0-A43ADE4A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6175-97F3-499F-BFCD-A03994B2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1CDD-DA4D-4864-A40F-69C400F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EEFF-D5AF-41DD-90D8-EA36FCE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FA6F-5B51-47C8-953F-3DBEFCE3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018-8168-4964-8F69-F247EA15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1D3A-FDE9-47F8-8951-28AA3545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D2C1-64AA-4AC8-8787-484C9C2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102B-EDA8-4E24-A82D-EFA3355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FFA4-F704-4F56-A9E4-D863C80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BF47-59E4-441D-844D-FC7EC6E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10D7-757A-4586-A92D-476F6C4B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1366-CF6F-49DB-AC16-61BF034F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96E6-E1F7-4E7D-A753-C7D05E73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33001-D86A-42D9-B04A-64A15416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4668-40E5-4CE6-BAF9-04445539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8C4-8CBF-4F3B-8864-E0969946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63F1-18D7-449A-A980-C55FED9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B5FA-2F13-4D6A-8AE2-3C9DFABE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2DBA-5811-451B-80DE-C3CB2C7B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835F-B14F-4F8F-9FA4-F07F748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AB25-0B04-4EA3-9EB8-D18E6FB4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F3FF-33C7-4108-A4C9-93490255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3741-9C3D-496A-A39E-8332DF4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370E-1FEC-4269-A906-E06BCA94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A2F5-9F26-4360-BB3F-810F5CF4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2C49E-6893-4AF9-A399-B35DF67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92-4DDA-4052-8C3E-9313E6B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08B39-C2F5-4DBD-B81A-48712C3D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DC85-5A81-4B8C-BACE-4D94802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E595-563A-4EA6-A76F-1C1D8F0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BA26-C126-4AB6-BB05-2111B5B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C9EB0-D7BD-49DF-8E1C-429DF66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C5E80-92B2-4E23-9AD3-DC6F3F21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744C7-DDBF-437E-AE3C-FE53752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7BE9-9EDF-4360-8DCC-4D5C7C1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F4251-4630-45EF-8CB4-C8E14535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B601B-A456-42BC-9AB1-2100586B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0E5-B5F7-46FF-9882-BD2865B1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2692-72AE-4129-A330-B982F19D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76B07-7B26-4EC9-BE32-D702AE3F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8E84-DA2F-411A-8E18-F18DEEB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61273-BC21-4656-8843-9A2E0384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B492D-7FAC-447B-AA7B-3A775A3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2EBF9-EDE7-4906-BBE3-3CCF04CD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6403B-08C3-4726-95FB-D221C305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1B19-3142-40F5-8193-0544F14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8CE3-C0BD-41EC-BC78-6BC30F52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8485-E580-44FB-8937-7BD53C1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1D3-6BD6-4C76-933F-1132F03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BBA9D-772D-43D2-9CDF-88EC1527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E0FE-A934-4213-B382-E0A66750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8DC97-F498-4C03-8CD9-59EA50F2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753-A367-44F5-8F8B-AF4B07E4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97F-C0F5-49B7-8308-962C563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6736-1334-4A17-8050-086501058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A3B3-2515-44A7-A318-E2AA97310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2275-0C3A-4EB2-86CD-7F4787476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53F-C980-4EED-B365-993547CB0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09DE-6680-4C91-91B1-82509AE5A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E787-7A55-42E4-805D-80F2C74BF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echnorati.com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meantforwork.mo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Tahoma"/>
              </a:rPr>
              <a:t>ED 4862</a:t>
            </a:r>
            <a:br>
              <a:rPr sz="4800"/>
            </a:b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Tuesday, March 20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438280" y="2768760"/>
            <a:ext cx="580248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&amp; Communications Technolog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’kmaq - Maliseet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ulty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New Brunsw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0932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Q’s ‘bout w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12372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Blog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hort for “web log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site – easy to use, like writing an emai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ntries, or “posts” are made in journal style; chronological ord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commen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work / School websit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 student blog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rofessional Reflective Blog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acher 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rofessional Reflective Journa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Different levels of participation (Post, comment, read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omment ability is important featu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eractive, conversation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Available Support for Blog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Blog Resources: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g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Edublog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lassblogmeist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s in the Classroom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3080" y="151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ahoma"/>
              </a:rPr>
              <a:t>Tonigh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heck i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How can it be used in the classroom to learn 21st Century Literacy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gging – the basics of where and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room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community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al 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web-based blog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rat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textbooks still relevant? Can you see a classroom without texts? What would replace them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43440" y="3138480"/>
            <a:ext cx="12571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tique Olive"/>
              </a:rPr>
              <a:t>Blog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933480" cy="539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353040" y="3049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Blog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1143000"/>
            <a:ext cx="67057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01318"/>
                </a:solidFill>
                <a:latin typeface="Arial"/>
              </a:rPr>
              <a:t>Used in K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icle classroo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urnals (individual and coll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pts for writing / story st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ature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case exemplar work (writing and pi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2209320" y="121932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chool Community Blog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226224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mework 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7abcd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8hij0607.blogspot.com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nasismiddle.nbed.nb.c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leohayeshigh.nbed.nb.c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56160" y="304920"/>
            <a:ext cx="51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01318"/>
                </a:solidFill>
                <a:latin typeface="Arial"/>
              </a:rPr>
              <a:t>School Community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Professional Blog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dub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vid Warlick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Richards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cki Dav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Utech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rl Fisch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Whippl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ofessional B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209320" y="1980720"/>
            <a:ext cx="6248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Technorati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848720" y="5105520"/>
            <a:ext cx="880920" cy="132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52480" y="22856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g “Search Eng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ws searches of blogs by content and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013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1318"/>
                </a:solidFill>
                <a:latin typeface="Arial"/>
              </a:rPr>
              <a:t>Tag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keywords added by author to assist search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chnorati.com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57320" cy="781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52480" y="533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Technor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Discuss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4267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textbooks still relev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you see a classroom without tex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would replace them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55744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Blogging Basics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6705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209320" y="19047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ahoma"/>
              </a:rPr>
              <a:t>Assignment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o do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Blo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Blog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Paper due March 29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3 (Pages 45-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Using Blogs, Wikis and Podcast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s Learning Tool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Mac A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9196" t="0" r="9196" b="4981"/>
          <a:stretch/>
        </p:blipFill>
        <p:spPr>
          <a:xfrm>
            <a:off x="1981080" y="1905120"/>
            <a:ext cx="5410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Embraced by Millenials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5880" y="2895480"/>
            <a:ext cx="2819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ySpa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Picz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lickr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YouTub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11320" y="1295280"/>
            <a:ext cx="73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y have stories to t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0:33:42Z</dcterms:created>
  <dc:creator>Gary Gallant</dc:creator>
  <dc:description/>
  <dc:language>en-US</dc:language>
  <cp:lastModifiedBy>jeff.whipple</cp:lastModifiedBy>
  <dcterms:modified xsi:type="dcterms:W3CDTF">2007-03-20T00:27:14Z</dcterms:modified>
  <cp:revision>45</cp:revision>
  <dc:subject/>
  <dc:title>Welcome to  ED3862</dc:title>
</cp:coreProperties>
</file>